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E793-C31A-47D0-8A2E-76B7553F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8E05-AD3E-4986-95BD-7417F90C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4F96-5B33-4F68-8F43-5C7A762D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9C17-DEC3-4C2D-9331-8D801B5B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584E-CBB1-4059-A2EF-90C0A904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A8E8-A000-4DC7-BC58-5BBD7A9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758B-3F0D-4790-B79A-044826FC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4E2C-6F95-432B-9F35-F640BC36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2FB-1119-4A76-9BEF-4C5F46D3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7E5C-7695-4555-B81D-AAEE44A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B898-1B3B-43E3-BBD1-BBE0CBF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F67D-CBE5-4F48-8FF1-2232B07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5CF8-37D3-47A9-B5CF-F999E99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5E43-A64E-446F-AC54-9AEC175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FA0-176B-400A-B45D-D5C21435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1F33-EAB7-452D-A3AF-7BC0DB9C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799-13D0-44DA-9DCC-3ADED467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90FE-0AB4-451D-AA0B-2E01E96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41E9-6029-4236-AF4B-635837E9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11AB-6EB6-4F8D-94F5-7450EB8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E8D8-224B-484F-96F8-D7FE502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214B-9B97-48BF-9FF9-A7AEB9B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47AE-A6CA-46A8-9644-1AEBD6FE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71AB-97A1-4B2B-85E4-CEE285EF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565-1525-49D3-A663-707B62CF043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16E1-0EF4-4AAE-9181-C61663E9CE4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79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що друго се нужда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земята тук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то на небето зна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Тебе дру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Ти, само 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за мене всичко 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небе - само 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во все Си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и да имах тук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лато и имо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ак без Теб съм нищо, мой Спас, мен Си Ти живо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98396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 Ти, само Т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ук за мене всичко Си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в небе - само Ти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се во все Си Ти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00640"/>
            <a:ext cx="896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за Свой да ме приеме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и земен пъ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кат' дойдеш и ме вземе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 в вечний кът!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Ти, само 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за мене всичко С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небе - само 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во все Си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4-30T16:01:53Z</dcterms:modified>
  <cp:revision>50</cp:revision>
  <dc:subject/>
  <dc:title>Slide 1</dc:title>
</cp:coreProperties>
</file>